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F52-1AB9-4BAF-82CA-B14596CC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E3A9-094D-4F1C-964B-29FF16F0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3B01-698F-4762-AA7D-AF6B81EF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B2B2-D1DE-43F7-91AB-1AF694DE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D5D6-41A7-4EDA-B539-D2E7521B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5113-1CEB-4DAB-ABBA-41DC2D85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E331-EDD2-4311-8905-08298319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9AB5-C3F8-4342-9472-73FB4CDB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73B8-083F-4F62-80F4-4C1BE6F9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948-DA5D-4BF6-B003-89413F4F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50FD-A998-413E-ACBA-5B67700A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AF4A-DBA0-4E5F-B6F3-0AD26D16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EE45-FD8A-4588-BACD-EF05B09C5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7632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763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858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0676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32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7632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3623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63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858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90676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8:35:07Z</dcterms:created>
  <dc:creator>Dina Winterton</dc:creator>
  <dc:description/>
  <dc:language>en-US</dc:language>
  <cp:lastModifiedBy>Dina Winterton</cp:lastModifiedBy>
  <dcterms:modified xsi:type="dcterms:W3CDTF">2010-03-24T18:44:49Z</dcterms:modified>
  <cp:revision>3</cp:revision>
  <dc:subject/>
  <dc:title>Slide 1</dc:title>
</cp:coreProperties>
</file>